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07D-77AF-4A14-8E06-5EE931DB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5D57-D0AE-4B42-9EBA-23ACAB87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4C24-41D4-4177-AE3A-2D7EF37B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98BA-98CF-43C1-95EB-8649303A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8A3F-5A29-431B-8AC4-7798953E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07F-0A49-46ED-85C8-B2C9986A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B783-9505-4FDB-8746-50F17357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BEA-ACD6-49DC-AD7E-2A44D9B7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AE00-CFDE-47AD-925D-115C9BF4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873-F553-4A84-BB36-BBB08435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FD9-5022-4531-A601-A2C2570C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9E0F-7ECC-44AE-8EB8-4DB29E42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804E-F3B9-446E-8E47-D9E3F614A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1924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ffff00"/>
                </a:solidFill>
                <a:latin typeface="Arial"/>
              </a:rPr>
              <a:t>Jeopardy</a:t>
            </a:r>
            <a:endParaRPr b="0" lang="en-US" sz="8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930240" y="1692360"/>
            <a:ext cx="8489880" cy="5006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1042920" y="1996920"/>
            <a:ext cx="1432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668680" y="1996920"/>
            <a:ext cx="15206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4362480" y="1996920"/>
            <a:ext cx="14317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6039000" y="1996920"/>
            <a:ext cx="14302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7647120" y="1996920"/>
            <a:ext cx="15159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976320" y="2844720"/>
            <a:ext cx="112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1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1042920" y="3652920"/>
            <a:ext cx="112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2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1042920" y="4498920"/>
            <a:ext cx="112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3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1042920" y="5345280"/>
            <a:ext cx="112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4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1042920" y="6192720"/>
            <a:ext cx="112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5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2838600" y="2844720"/>
            <a:ext cx="1122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1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6224760" y="2844720"/>
            <a:ext cx="11239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1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4532400" y="2844720"/>
            <a:ext cx="1122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1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7834320" y="2844720"/>
            <a:ext cx="112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1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2838600" y="3691080"/>
            <a:ext cx="1122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2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4532400" y="3691080"/>
            <a:ext cx="1122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2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6224760" y="3691080"/>
            <a:ext cx="11239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2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7834320" y="3691080"/>
            <a:ext cx="112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2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2838600" y="4452840"/>
            <a:ext cx="1122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3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4446720" y="4452840"/>
            <a:ext cx="11239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3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6199200" y="4452840"/>
            <a:ext cx="112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3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7834320" y="4537080"/>
            <a:ext cx="112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3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838600" y="5299200"/>
            <a:ext cx="1122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4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4532400" y="5384880"/>
            <a:ext cx="1122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4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6224760" y="5384880"/>
            <a:ext cx="11239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4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7834320" y="5384880"/>
            <a:ext cx="112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4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1"/>
          <p:cNvSpPr/>
          <p:nvPr/>
        </p:nvSpPr>
        <p:spPr>
          <a:xfrm>
            <a:off x="2838600" y="6230880"/>
            <a:ext cx="1122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5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2"/>
          <p:cNvSpPr/>
          <p:nvPr/>
        </p:nvSpPr>
        <p:spPr>
          <a:xfrm>
            <a:off x="4532400" y="6230880"/>
            <a:ext cx="1122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5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6224760" y="6230880"/>
            <a:ext cx="11239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5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7834320" y="6230880"/>
            <a:ext cx="112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5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5" descr=""/>
          <p:cNvPicPr/>
          <p:nvPr/>
        </p:nvPicPr>
        <p:blipFill>
          <a:blip r:embed="rId3"/>
          <a:stretch/>
        </p:blipFill>
        <p:spPr>
          <a:xfrm>
            <a:off x="7502400" y="7016760"/>
            <a:ext cx="2244960" cy="539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6"/>
          <p:cNvSpPr/>
          <p:nvPr/>
        </p:nvSpPr>
        <p:spPr>
          <a:xfrm>
            <a:off x="7567560" y="7083360"/>
            <a:ext cx="21178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Final Jeopard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500 Question from H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894040" y="2448000"/>
            <a:ext cx="43448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mory clue for spelling desser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500 Answer from H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2689200" y="2441520"/>
            <a:ext cx="4046400" cy="1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We can think of the double </a:t>
            </a:r>
            <a:r>
              <a:rPr b="0" lang="en-US" sz="37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 as a second helping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100 Question from H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2155680" y="3570120"/>
            <a:ext cx="68058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Arial"/>
              </a:rPr>
              <a:t>Abingdon or Abington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100 Answer from H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568520" y="2252520"/>
            <a:ext cx="5421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bingd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200 Question from H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2990880" y="2438280"/>
            <a:ext cx="382896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 or 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ther changes every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200 Answer from H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1967040" y="2271600"/>
            <a:ext cx="48654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lse, because weather changes every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300 Question from H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482920" y="2540160"/>
            <a:ext cx="387180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 u="sng">
                <a:solidFill>
                  <a:srgbClr val="ffffff"/>
                </a:solidFill>
                <a:uFillTx/>
                <a:latin typeface="Times New Roman"/>
              </a:rPr>
              <a:t>What is the diference?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 u="sng">
                <a:solidFill>
                  <a:srgbClr val="ffffff"/>
                </a:solidFill>
                <a:uFillTx/>
                <a:latin typeface="Times New Roman"/>
              </a:rPr>
              <a:t>Beside-</a:t>
            </a:r>
            <a:r>
              <a:rPr b="0" lang="en-US" sz="53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0" lang="en-US" sz="5300" spc="-1" strike="noStrike" u="sng">
                <a:solidFill>
                  <a:srgbClr val="ffffff"/>
                </a:solidFill>
                <a:uFillTx/>
                <a:latin typeface="Times New Roman"/>
              </a:rPr>
              <a:t>Besides-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300 Answer from H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2076480" y="2743200"/>
            <a:ext cx="46656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Besid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means “next to.”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Besid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means “in addition to” or “exce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400 Question from H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3295800" y="2946240"/>
            <a:ext cx="33321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ud or out lo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400 Answer from H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2143080" y="3571920"/>
            <a:ext cx="333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100 Question from H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147760" y="3608280"/>
            <a:ext cx="4667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Use ____ or ____  to refer to people; use ____ or 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____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 to refer to animals, objects, or concept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500 Question from H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143080" y="3571920"/>
            <a:ext cx="333396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ould you write out 188 in numbers or lette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500 Answer from H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2787480" y="2336760"/>
            <a:ext cx="39722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mbers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bers that can be said in two words or less should be written out as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100 Question from H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787480" y="2336760"/>
            <a:ext cx="333216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you use instead of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ut lou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100 Answer from H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3193920" y="2540160"/>
            <a:ext cx="3332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200 Question from H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482920" y="2235240"/>
            <a:ext cx="333216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use to enclose a quotation within a quot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200 Answer from H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685960" y="2743200"/>
            <a:ext cx="33321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gle quo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300 Question from H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143080" y="3571920"/>
            <a:ext cx="33339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s to us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300 Answer from H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2482920" y="1905120"/>
            <a:ext cx="5194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st of the time, as a preposi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400 Question from H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143080" y="3571920"/>
            <a:ext cx="33339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suspicion a nou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400 Answer from H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2143080" y="3571920"/>
            <a:ext cx="333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ES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100 Answer from H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2076480" y="3570120"/>
            <a:ext cx="50371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Who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who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whic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500 Question from H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2143080" y="3571920"/>
            <a:ext cx="33339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thusiastic, can you shorten 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500 Answer from H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3397320" y="2946240"/>
            <a:ext cx="3332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p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!!!!!!!!!!!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100 Question from H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2684520" y="2133720"/>
            <a:ext cx="5038560" cy="20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ople who have light or fair skin are..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100 Answer from H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787480" y="2844720"/>
            <a:ext cx="4170600" cy="21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light-complexion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no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omplected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200 Question from H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2482920" y="2235240"/>
            <a:ext cx="32763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Furth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Farth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200 Answer from H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178000" y="2133720"/>
            <a:ext cx="333216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Furth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refers to anything additiona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. Further study will be necessary. I do not wish to discuss it furth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Farth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refers to distan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. Sam lives  farther from school than I d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300 Question from H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185840" y="2301840"/>
            <a:ext cx="670572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illusio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allusio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300 Answer from H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889280" y="2428920"/>
            <a:ext cx="65228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illusio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= “false impression” or “deceptive appearance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          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. Make-up can create an illusion of youth. Optical illusions are fun to exami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allusio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= “indirect reference to something or someone generally familiar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          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. Poets make many allusions to mytholog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400 Question from H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3498840" y="2743200"/>
            <a:ext cx="3332160" cy="18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Difference between role and ro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400 Answer from H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571760" y="2724120"/>
            <a:ext cx="5725800" cy="20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use roll for every use except “playing a part.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200 Question from H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151000" y="3568680"/>
            <a:ext cx="55594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ool subjects are capitaliz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500 Question from H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2143080" y="3571920"/>
            <a:ext cx="33339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st tense of L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500 Answer from H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3397320" y="2946240"/>
            <a:ext cx="3673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100 Question from H5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3193920" y="2743200"/>
            <a:ext cx="33321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inition of accept and excep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100 Answer from H5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1974960" y="1924200"/>
            <a:ext cx="652140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 u="sng">
                <a:solidFill>
                  <a:srgbClr val="ffffff"/>
                </a:solidFill>
                <a:uFillTx/>
                <a:latin typeface="Arial"/>
              </a:rPr>
              <a:t>Accept</a:t>
            </a: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 = “to receive willingly” ex. I accepted the gif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 u="sng">
                <a:solidFill>
                  <a:srgbClr val="ffffff"/>
                </a:solidFill>
                <a:uFillTx/>
                <a:latin typeface="Arial"/>
              </a:rPr>
              <a:t>Except</a:t>
            </a: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 = “to exclude or but” ex. Everybody who was late except me was exempt from the penalty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200 Question from H5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5"/>
          <p:cNvSpPr/>
          <p:nvPr/>
        </p:nvSpPr>
        <p:spPr>
          <a:xfrm>
            <a:off x="2787480" y="3149640"/>
            <a:ext cx="333216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Definition of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Prerogativ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200 Answer from H5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3295800" y="2336760"/>
            <a:ext cx="333216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ight or privilege because of age, rank, clas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300 Question from H5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2143080" y="3571920"/>
            <a:ext cx="33339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"good" an adjective or a verb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300 Answer from H5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482920" y="2844720"/>
            <a:ext cx="51940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400 Question from H5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2990880" y="2946240"/>
            <a:ext cx="33321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s two us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400 Answer from H5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3397320" y="2743200"/>
            <a:ext cx="33321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you are using numb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200 Answer from H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568520" y="2336760"/>
            <a:ext cx="65228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nguages and subjects that are followed by numbers. Ex.) French, English I, Spanish, Algebra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500 Question from H5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2143080" y="3571920"/>
            <a:ext cx="33339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s too us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500 Answer from H5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3295800" y="2743200"/>
            <a:ext cx="33321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there is extra inform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</a:rPr>
              <a:t>Final Jeopar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450720" y="2031840"/>
            <a:ext cx="949968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author wrote, “If one man kills anothe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murder, but if a hundred thousand men k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other hundred thousand, it is considered 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t of glory!?”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2"/>
          <a:stretch/>
        </p:blipFill>
        <p:spPr>
          <a:xfrm>
            <a:off x="8296200" y="6518160"/>
            <a:ext cx="339840" cy="341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</a:rPr>
              <a:t>Final Jeopardy Answ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720800" y="3124080"/>
            <a:ext cx="456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Who is Tolstoy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(The book is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Kingdom of God)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300 Question from H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974960" y="2540160"/>
            <a:ext cx="583704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nctuations are not appropraite to overuse in formal writ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300 Answer from H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187720" y="2741760"/>
            <a:ext cx="4649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clamation points and question mar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400 Question from H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2789280" y="2444760"/>
            <a:ext cx="423684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to abandon and ari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400 Answer from H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2143080" y="3571920"/>
            <a:ext cx="333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Sarah</cp:lastModifiedBy>
  <dcterms:modified xsi:type="dcterms:W3CDTF">2010-05-19T00:23:51Z</dcterms:modified>
  <cp:revision>1</cp:revision>
  <dc:subject/>
  <dc:title>PowerPoint Presentation</dc:title>
</cp:coreProperties>
</file>